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144E-C0EC-4040-A6F2-1F59189FCE7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635C-87CE-41C7-9864-31C04AA03BC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7993-DCE3-494B-8BCE-6EAC511B121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484-2156-439D-B815-55276022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30D5-8E80-4E04-8ED1-29BEC09A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AE9-0F98-42FD-BBCD-C741163D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1E7-3386-4E5A-B440-C419BB8A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3D3-CAF6-42F2-82A8-1E721624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7C7-C239-40B2-A3ED-1013A7E0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E65-5C8C-4569-96A6-E57D4427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8F8-B410-4CCC-BFCC-47AA6540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96F-642A-45C1-AD1F-FE309310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2FC7-5942-4455-AED4-2BD7858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DB24-2D6C-4DED-A575-0781DF55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782-11E4-4EEE-8BC0-025F358B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C61C-6C0D-475A-93A6-189E6BBD9B1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2.png"/><Relationship Id="rId8" Type="http://schemas.openxmlformats.org/officeDocument/2006/relationships/image" Target="../media/image4.gif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image" Target="../media/image2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o čemu znamo da strujnim krugom protječe električna stru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42480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elektroliza modre galice</a:t>
            </a:r>
            <a:br>
              <a:rPr sz="3200"/>
            </a:b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 ako na elektrode stavimo novčić i ugljeni štapi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SnapShot(526).jpg"/>
          <p:cNvPicPr/>
          <p:nvPr/>
        </p:nvPicPr>
        <p:blipFill>
          <a:blip r:embed="rId2"/>
          <a:stretch/>
        </p:blipFill>
        <p:spPr>
          <a:xfrm>
            <a:off x="4716360" y="2708280"/>
            <a:ext cx="405936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gljeni štapić promijenio je boju – na njemu se pojavio sloj bak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struja protječe kroz elektrolit mijenja se kemijski sastav elektrolita. To znači da struja ima i </a:t>
            </a:r>
            <a:r>
              <a:rPr b="0" lang="hr-HR" sz="3200" spc="-1" strike="noStrike">
                <a:solidFill>
                  <a:srgbClr val="ff0000"/>
                </a:solidFill>
                <a:latin typeface="Calibri"/>
              </a:rPr>
              <a:t>kemijski učinak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električna struja i pribadač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, kada zatvorimo strujni kru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napShot(527).jpg"/>
          <p:cNvPicPr/>
          <p:nvPr/>
        </p:nvPicPr>
        <p:blipFill>
          <a:blip r:embed="rId9"/>
          <a:stretch/>
        </p:blipFill>
        <p:spPr>
          <a:xfrm>
            <a:off x="2195640" y="1773360"/>
            <a:ext cx="460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i učinak ima električna struja kada protječe kroz strujne vodo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e smo učinke (djelovanja) električne struje kroz pokuse upozna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žica i bater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, spojimo li komad žice izravno na polove bateri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sa žicom dogodil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Gdje primjenjujemo toplinski učinak stru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električnim grijačima električne grijalice, perilice, štednjaka, bojlera ili sušila za kos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SnapShot(522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mijemo li rukom dotaknuti žarulju koja je svijetlila neko vrije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ako žarulja svijetl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žarulja svijet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žarna nit ne pregor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SnapShot(523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197000"/>
            <a:ext cx="3035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 čega se sastoji žarulja s žarnom ni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3635280" y="1741320"/>
            <a:ext cx="531828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stoje li još neki svjetlosni učinci električne stru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vjetlosne učinke struje primjećujemo i u neonskim cijevima (luminiscencija plina neona), štednim žaruljama, svijetlećim diodama (LED) i LC zaslon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, ako omotamo žicu nekoliko puta oko čavla, uključimo strujni krug i približimo je pribadača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struja kroz zavojnicu omotanu oko čav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dogodi, ako isključimo strujni kru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av je ovo učinak električne stru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je elektroliz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 ako električna struja protječe kroz otopinu modre gal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6:44:31Z</dcterms:created>
  <dc:creator>Zdenka</dc:creator>
  <dc:description/>
  <dc:language>en-US</dc:language>
  <cp:lastModifiedBy>Zdenko</cp:lastModifiedBy>
  <dcterms:modified xsi:type="dcterms:W3CDTF">2014-07-18T09:22:07Z</dcterms:modified>
  <cp:revision>15</cp:revision>
  <dc:subject/>
  <dc:title>Učinci električne struje</dc:title>
</cp:coreProperties>
</file>